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64448-F2B5-4D24-A627-7AB465488C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128AC-A8C5-4BDF-9B04-C606ADA40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DC5D4-ED5B-4EF5-AAC2-4A02C74819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0657CC-2CFF-4C08-9A46-2D93AC62C8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C7ABE-C553-47E9-B808-79AA73C71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30849-F610-43A2-93CF-D9FA25A97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5A9E3-2C03-424E-A2AA-AC007190C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46F02-91CB-4D88-AF6D-58D0B9295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60B23-CB66-42B3-9EC9-D2F21E546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78D53-A17C-474E-8D3D-DF23E61D2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7D4F7-F36D-4FED-B8A8-CFC0BA046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9CF93-03CE-47F8-95CE-46C6F25F2C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C6D57-6E9C-4898-90E8-6C4834C6234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EGE ÜNİVERSİTESİ</a:t>
            </a:r>
            <a:endParaRPr b="0" lang="en-US" sz="60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425592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07:37:05Z</dcterms:created>
  <dc:creator>Microsoft Office User</dc:creator>
  <dc:description/>
  <dc:language>en-US</dc:language>
  <cp:lastModifiedBy>Microsoft Office User</cp:lastModifiedBy>
  <dcterms:modified xsi:type="dcterms:W3CDTF">2018-08-01T13:24:51Z</dcterms:modified>
  <cp:revision>3</cp:revision>
  <dc:subject/>
  <dc:title>PowerPoint Presentation</dc:title>
</cp:coreProperties>
</file>